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410-D51E-4AEC-83E2-1600F290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D34-C354-4FE7-92DA-C8AF4B8D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7EA-47C0-4CF9-8342-47CC4538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CEA-E63D-4F0A-A157-9C72082F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438-C687-423C-AE5D-1468937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67B-B183-4ED3-9E1A-247B808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C6D-0EDB-491E-A93A-A2E47AD1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D2C-6250-4113-8890-6EB9ACF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1BA-65EB-4424-8492-79A6AC35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261-2D43-44A5-960A-5FF8B6F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08F-9CEB-4A99-9BAD-D09410E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6F0-915F-48FE-9125-E4A63F7E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2C7-DDE2-4270-BD38-D1933ED5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136"/>
          <p:cNvPicPr/>
          <p:nvPr/>
        </p:nvPicPr>
        <p:blipFill>
          <a:blip r:embed="rId1"/>
          <a:srcRect l="25441" t="1297" r="57566" b="61097"/>
          <a:stretch/>
        </p:blipFill>
        <p:spPr>
          <a:xfrm>
            <a:off x="5529240" y="76320"/>
            <a:ext cx="3417840" cy="35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65"/>
          <p:cNvPicPr/>
          <p:nvPr/>
        </p:nvPicPr>
        <p:blipFill>
          <a:blip r:embed="rId2"/>
          <a:srcRect l="0" t="0" r="0" b="7006"/>
          <a:stretch/>
        </p:blipFill>
        <p:spPr>
          <a:xfrm>
            <a:off x="5334120" y="3921120"/>
            <a:ext cx="3608280" cy="276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90"/>
          <p:cNvPicPr/>
          <p:nvPr/>
        </p:nvPicPr>
        <p:blipFill>
          <a:blip r:embed="rId3"/>
          <a:stretch/>
        </p:blipFill>
        <p:spPr>
          <a:xfrm>
            <a:off x="838080" y="397980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28600" y="76320"/>
            <a:ext cx="50292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8477" r="0" b="0"/>
          <a:stretch/>
        </p:blipFill>
        <p:spPr>
          <a:xfrm>
            <a:off x="152280" y="1752480"/>
            <a:ext cx="4724640" cy="3380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800600" y="121932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альной гвоздь заржав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7"/>
          <p:cNvPicPr/>
          <p:nvPr/>
        </p:nvPicPr>
        <p:blipFill>
          <a:blip r:embed="rId2"/>
          <a:stretch/>
        </p:blipFill>
        <p:spPr>
          <a:xfrm>
            <a:off x="6019920" y="1828800"/>
            <a:ext cx="256068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769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Химическое яв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4840" y="12193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ипела вода в чай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457200" y="1676520"/>
            <a:ext cx="281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звенел звонок с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276720" cy="28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572000" y="1600200"/>
            <a:ext cx="3657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ребенка, которой расчесались, притянула бума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5"/>
          <p:cNvPicPr/>
          <p:nvPr/>
        </p:nvPicPr>
        <p:blipFill>
          <a:blip r:embed="rId2"/>
          <a:srcRect l="9004" t="61376" r="1191" b="15351"/>
          <a:stretch/>
        </p:blipFill>
        <p:spPr>
          <a:xfrm>
            <a:off x="4495680" y="297180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68580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7"/>
          <p:cNvPicPr/>
          <p:nvPr/>
        </p:nvPicPr>
        <p:blipFill>
          <a:blip r:embed="rId1"/>
          <a:stretch/>
        </p:blipFill>
        <p:spPr>
          <a:xfrm>
            <a:off x="3505320" y="2514600"/>
            <a:ext cx="2555640" cy="289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7"/>
          <p:cNvPicPr/>
          <p:nvPr/>
        </p:nvPicPr>
        <p:blipFill>
          <a:blip r:embed="rId2"/>
          <a:srcRect l="0" t="0" r="18750" b="0"/>
          <a:stretch/>
        </p:blipFill>
        <p:spPr>
          <a:xfrm>
            <a:off x="304920" y="2514600"/>
            <a:ext cx="259056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1523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стене появился солнечный «зай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15238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возди притянулись к магни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600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умага сгорела и превратилась в пеп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8088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3808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Химическое явление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амые загадочные и красивые 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55623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ата-Морг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ложное оптическое явление в атмосфере, состоящее из нескольких форм миражей, при котором отдаленные предметы видны многократно и с разнообразными иска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ало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ветящийся круг вокруг Солнца или Л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1440" y="41911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о′ возникает в результате преломления света в 6 – гранных ледяных кристалл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254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436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6666" t="0" r="6222" b="1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алакт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b-photo-image" descr=""/>
          <p:cNvPicPr/>
          <p:nvPr/>
        </p:nvPicPr>
        <p:blipFill>
          <a:blip r:embed="rId1"/>
          <a:stretch/>
        </p:blipFill>
        <p:spPr>
          <a:xfrm>
            <a:off x="152280" y="723960"/>
            <a:ext cx="4572000" cy="3085920"/>
          </a:xfrm>
          <a:prstGeom prst="rect">
            <a:avLst/>
          </a:prstGeom>
          <a:ln w="0">
            <a:noFill/>
          </a:ln>
        </p:spPr>
      </p:pic>
      <p:pic>
        <p:nvPicPr>
          <p:cNvPr id="91" name="b-photo-image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72040" cy="6400800"/>
          </a:xfrm>
          <a:prstGeom prst="rect">
            <a:avLst/>
          </a:prstGeom>
          <a:ln w="0">
            <a:noFill/>
          </a:ln>
        </p:spPr>
      </p:pic>
      <p:pic>
        <p:nvPicPr>
          <p:cNvPr id="92" name="b-photo-image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4343400" cy="2865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40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талагм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i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Диктант «Определи  явлени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жатие пруж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 накипи при кипячени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ниение растительных ост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Ледоход на ре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вка 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орение спи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кисание яблочного с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створение уксусной кислоты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угливание луч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мерза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кисание мол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орение природного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ние ин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 перечня явлений выбрать и прямо на листочке обозначить номера, под которыми указ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– физические я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– химические я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Оценочный лист работы группы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344600"/>
          <a:ext cx="8305920" cy="4751280"/>
        </p:xfrm>
        <a:graphic>
          <a:graphicData uri="http://schemas.openxmlformats.org/drawingml/2006/table">
            <a:tbl>
              <a:tblPr/>
              <a:tblGrid>
                <a:gridCol w="5334120"/>
                <a:gridCol w="1523880"/>
                <a:gridCol w="14479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еятельност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1 до 5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бал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адывание ана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 в формате А4 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ный конк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езентации загадочного и красивого явления природы (домашняя загот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дикта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, с которыми столкнулся на уроке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фр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inquain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нгл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inqua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это творческая работа, которая имеет короткую форму стихотворения, состоящего из пяти нерифмованных ст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 простое стихотворение, а стихотворение, написанное по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лючевой вопрос: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9999"/>
                </a:solidFill>
                <a:uFillTx/>
                <a:latin typeface="Arial"/>
              </a:rPr>
              <a:t>Какие явления происходят вокруг нас?</a:t>
            </a:r>
            <a:r>
              <a:rPr b="1" lang="en-US" sz="26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en-US" sz="26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99"/>
                </a:solidFill>
                <a:uFillTx/>
                <a:latin typeface="Arial"/>
              </a:rPr>
              <a:t>Мир природных явл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накомиться с классификацией явлений, происходящих в природе и жизни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aramond"/>
              </a:rPr>
              <a:t>Правила составления cинквей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 строка – одно существительное, выражающее главную тему cинквей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строка – два прилагательных, выражающих главную мысл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 строка – три глагола, описывающие действия в рамках тем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 строка – фраза, несущая определенный смыс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 строка – заключение в форме существительного (ассоциация с первым словом)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ставлять cинквейн очень просто и интересно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И к тому же, работа над созданием синквейна развивает образное мышлен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имер синквейна к слову «природа»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рода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тая, всеобъемлющая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учается, загрязняется, защищается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тественная среда обитания человека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746280"/>
          <a:ext cx="8458200" cy="5287680"/>
        </p:xfrm>
        <a:graphic>
          <a:graphicData uri="http://schemas.openxmlformats.org/drawingml/2006/table">
            <a:tbl>
              <a:tblPr/>
              <a:tblGrid>
                <a:gridCol w="2361960"/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 учебн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езентации загадочного и красивого явления природы (домашняя загот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 учебн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ить кроссво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езентации загадочного и красивого явления природы (домашняя загот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 учебн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ить синкв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езентации загадочного и красивого явления природы (домашняя загот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Технологическая карта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чтите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писывать свойства вещества – это значит у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в каком состоянии находится вещество: твердое, жидкое или газообраз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цвет ве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запах вещества, если он е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 растворимо ли вещество в во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юхать вещество следует очень осторож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714240"/>
          <a:ext cx="8229600" cy="500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ейте в пробирку КJ и добавьте AgN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блюдали при смешивании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ются ли при этом вещества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этого явления – изменение </a:t>
                      </a: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стите в пробирку карбонат натрия и добавьте в пробирку  соляную  кислот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обавлении к карбонату натрия  кислоты наблюдается бурное выделение ________ с шипением. Изменяются ли при этом вещества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этого явления ______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750960"/>
          <a:ext cx="8229600" cy="553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стите в пробирку кусочек льда. Закрепите ее держателем для пробирок. Нагрейте содержимое пробирки в пламени спиртовки. При закипании жидкости поднесите к отверстию пробирки предметное стеклышк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блюдаете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при этом вещество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этого явления – изменение ____________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 бумаги разорвите на мелкие кусочк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при этом вещество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этого явления – изменение _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838080"/>
          <a:ext cx="4038480" cy="5287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есите к постоянному магниту мелкие металлические предметы (гвоздь, скрепку, другие тела)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блюдаете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при этом вещество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этого явления – изменение ____________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48320" y="838080"/>
          <a:ext cx="4038480" cy="5287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пыт №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ертите схему цеп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ерите простейшую электрическую цеп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блю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аблюдает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ли при этом тело или  вещество? 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600200"/>
          <a:ext cx="8229600" cy="273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ие явлени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е явлени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ий процесс рожд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у и заря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, грозу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ье создаё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рению, морским прилив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лет угаснуть не даё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химический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арит свет, тепл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ищу, и стекл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жем мы и ехать без него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ь смысл его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всего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35000"/>
          <a:ext cx="8229600" cy="649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физических явлени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химических явлени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изменяется температура тел, изменяется агрегатное состояние вещества, тепло переходит от одного тела к другому.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тела движутся и взаимодействуют, при этом изменяется их скорость, могут измениться форма и размеры тела.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мы воспринимаем их органом слуха, но практически все знают, что существует ультразвук, инфразвук.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ов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мы воспринимаем их органом зрения. 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итные и электрическ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мы не можем воспринимать их органами чувств, но обнаруживаем по воздействию на другие тела и используем в повседневной жизни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вление запах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цвета веществ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вление осадк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ение газа, тепла, све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ое изменение температуры при смешивании прозрачных жидкосте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23"/>
          <p:cNvPicPr/>
          <p:nvPr/>
        </p:nvPicPr>
        <p:blipFill>
          <a:blip r:embed="rId1"/>
          <a:srcRect l="16888" t="0" r="20152" b="0"/>
          <a:stretch/>
        </p:blipFill>
        <p:spPr>
          <a:xfrm>
            <a:off x="4572000" y="1676520"/>
            <a:ext cx="43848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600" y="2282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Химическое явл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759079"/>
          <p:cNvPicPr/>
          <p:nvPr/>
        </p:nvPicPr>
        <p:blipFill>
          <a:blip r:embed="rId2"/>
          <a:srcRect l="34375" t="29689" r="31250" b="4687"/>
          <a:stretch/>
        </p:blipFill>
        <p:spPr>
          <a:xfrm>
            <a:off x="0" y="1523880"/>
            <a:ext cx="4192560" cy="5334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0" y="1519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явление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9360" y="914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печи сгорели д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9144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Школьный мелок упал и разбил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v</cp:lastModifiedBy>
  <dcterms:modified xsi:type="dcterms:W3CDTF">2015-02-28T13:39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